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B425-C6AC-4AA6-8C12-70618B00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3816-DE7B-40BC-9983-2826AB2A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3BEB-7665-4D56-A736-CD79E8A1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573A-21EE-4974-8703-DE8FB67B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2962-1ED5-4AC9-9EA6-617857DB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6BCB-6CD7-4894-9637-C31E64A0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CC76-8FE3-4A04-80AB-B89DB4E8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B2BB-0309-4D4E-8223-63C7125D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D451-A4A0-4D54-A320-100B7635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D944-7F84-474F-86EF-99690E8D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E337-1184-42BC-906D-E2F7B9D9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B900-357D-4A09-8659-F84C1073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93E5-8FA6-4829-B2E4-00A0EA288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505320" y="609480"/>
            <a:ext cx="2019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our school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657600" y="5334120"/>
            <a:ext cx="205740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y Trist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logo1" descr=""/>
          <p:cNvPicPr/>
          <p:nvPr/>
        </p:nvPicPr>
        <p:blipFill>
          <a:blip r:embed="rId3"/>
          <a:stretch/>
        </p:blipFill>
        <p:spPr>
          <a:xfrm>
            <a:off x="3276720" y="2154240"/>
            <a:ext cx="274320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Tea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Willi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Dav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At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Robi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Th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.Ro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J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Har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Math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J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.Dix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ur school is Glenbo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a primary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9:04:15Z</dcterms:created>
  <dc:creator>4glenb2</dc:creator>
  <dc:description/>
  <dc:language>en-US</dc:language>
  <cp:lastModifiedBy>4glenb2</cp:lastModifiedBy>
  <dcterms:modified xsi:type="dcterms:W3CDTF">2009-09-30T09:07:09Z</dcterms:modified>
  <cp:revision>1</cp:revision>
  <dc:subject/>
  <dc:title>PowerPoint Presentation</dc:title>
</cp:coreProperties>
</file>